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738-642A-4E90-8FCE-9C7EF3E1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AF1-30C1-4A35-8D35-583BBB7B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706-0E2A-4134-8ABD-DFC77453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E27-3107-413A-868D-7CFE2E14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603-0FC3-4AE2-B285-28635B94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3A3-5E78-4755-ACA3-DEE359A4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DFF-F95D-4C05-894E-FC5239F5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294-F4AC-4559-B29A-9F220498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2A4-BEB8-4963-AA46-0A0BD1CD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543-8F41-4B0E-AED7-4FA13032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068-8DB0-4391-8A2B-4320F78E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FE9-E7EA-4DD7-8C58-ACE3F092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E0E6-3C7A-4610-9E93-BD50CC91CA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n.com/news/enn-stories/1999/04/040699/gorill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corrie.files@virgin.ne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aphari.com/artie/images/panther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ophie-g.net/photo/oz/anim/pct/kanga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anson: Chanterelles ‘Tu as un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ay what pets you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ay what your pet is called and give its 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ask others about their pet’s name and age and relate that to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read and understand another way of asking the question ‘have you (got)?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read and understand ‘I hav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learn how to use adjectives to make a comment on someone or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1840" y="3213000"/>
            <a:ext cx="2795400" cy="3456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as un animal, un animal, Jul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ui j’ai un animal, j’ai un gori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ai un gorille, il s’appelle Soph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Sophie pour un gorille, oh quelle fo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Sophie pour un gorille, oh quelle fo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erche l’int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mp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angou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n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è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h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r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ngou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p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h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er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t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ril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t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mp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p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443640" y="907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198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5516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5516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uc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852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43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at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119700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67280" y="3284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9640" y="1916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2205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4653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n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587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r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628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112536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angour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443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d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2924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3213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18900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ivise en cinq grou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ça se prono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p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l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lli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l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ça se prono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aty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mp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nth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sup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f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ça se prono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h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o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ça se prono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ctivit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sten and enjoy song without lyrics (contact Corrie Files at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orrie.files@virgin.ne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or detail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cuss gist of song. Listen and link pets with their names. slid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ook at lyrics – bring out cognates and ‘have’ – new question form by intonation, and c’est + adjective – mime adjec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lk about own pets (photos, cuddly to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 odd one out –slide 11, or group words on slide 12 into similar sou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nunciation practice on final slides as starter for nex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ssocie les noms aux an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r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n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kangou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uch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 as un ani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as un animal, un animal Al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ui j’ai un animal, j’ai un la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ai un lapin, il s’appelle Vi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Vilain pour un lapin,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ça c’est b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Vilain pour un lapin, ça c’est 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00640" y="2924280"/>
            <a:ext cx="3525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as un animal, un animal, Katy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ui j’ai un animal, j’ai un c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ai un chat, il s’appelle C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Coca pour un chat, c’est sym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Coca pour un chat, c’est sym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640872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as un animal, un animal, Jean-Pier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ui, j’ai un animal, j’ai une pan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è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’ai un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n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ère, elle s’appelle Es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Esther pour une </a:t>
            </a: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panth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ère, c’est su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Esther pour une </a:t>
            </a: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panth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ère, c’est su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284640"/>
            <a:ext cx="38401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81760" y="3141720"/>
            <a:ext cx="2975040" cy="3716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as un animal, un animal Abd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ui, j’ai un animal, j’ai un kangou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ai un kangourou, il s’appelle Chouch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Chouchou pour un kangourou,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ça c’est f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Chouchou pour un kangourou,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ça c’est f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1:32:25Z</dcterms:created>
  <dc:creator>LFT1</dc:creator>
  <dc:description/>
  <dc:language>en-US</dc:language>
  <cp:lastModifiedBy>Teacher</cp:lastModifiedBy>
  <dcterms:modified xsi:type="dcterms:W3CDTF">2007-11-19T00:50:01Z</dcterms:modified>
  <cp:revision>9</cp:revision>
  <dc:subject/>
  <dc:title>Chanson: Chanterelles ‘Tu as un animal?</dc:title>
</cp:coreProperties>
</file>